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7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26.png" ContentType="image/png"/>
  <Override PartName="/ppt/media/image6.wmf" ContentType="image/x-wmf"/>
  <Override PartName="/ppt/media/image10.wmf" ContentType="image/x-wmf"/>
  <Override PartName="/ppt/media/image25.png" ContentType="image/png"/>
  <Override PartName="/ppt/media/image5.wmf" ContentType="image/x-wmf"/>
  <Override PartName="/ppt/media/image4.wmf" ContentType="image/x-wmf"/>
  <Override PartName="/ppt/media/image3.wmf" ContentType="image/x-wmf"/>
  <Override PartName="/ppt/media/image2.wmf" ContentType="image/x-wmf"/>
  <Override PartName="/ppt/media/image28.png" ContentType="image/png"/>
  <Override PartName="/ppt/media/image16.png" ContentType="image/png"/>
  <Override PartName="/ppt/media/image27.png" ContentType="image/png"/>
  <Override PartName="/ppt/media/image1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20.wmf" ContentType="image/x-wmf"/>
  <Override PartName="/ppt/media/image19.png" ContentType="image/png"/>
  <Override PartName="/ppt/media/image18.png" ContentType="image/png"/>
  <Override PartName="/ppt/media/image14.png" ContentType="image/png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EDE65-0548-4FE6-AEC4-D21A07E0917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69921-2EE5-45C6-8F88-5D33E778C37B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7F99A-71AB-45CF-9353-444C9ABEFF7C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7F8ED-1D51-4BF8-A60A-868A63A56B84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0318A-E506-4C36-A1A5-E51143425AB4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DA8EFE0-C38F-4FF0-B01A-87797701B57F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80EC9D04-D7B8-4DBA-A055-2A7109F5D8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ymbol zastępczy numeru slajdu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92A4D-605E-43FB-A1DA-2A2640E29A28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2EB7-29DB-499A-AA5E-68B813218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0098-F984-421E-A8BE-0A0FE5E95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1164-089D-4413-81CF-9204A1C5E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584B-3C67-47E3-A119-BBE2078F9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1423-E549-4C2A-BCED-B78154E34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D357-47E1-4719-A315-60F506187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3E20-1774-4762-A3FE-7082C8873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D66D-B11B-4944-A9F9-A65E06BFB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C23D-514C-427B-A957-6FA5507D0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EC6A-45E9-48C0-B3F7-290ADEA2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2EEF-4980-4BC3-B955-79A780E9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8AE1-4514-4D34-8311-9ECEE1D2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24056-2A3E-4921-A3F8-6A9F1B309B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zedsiębiorczość akademicka i współpraca z przemysł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Olaf Gaj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32000" y="479736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X Kolegium Prorektorów ds. Nauki i Rozwoju Polskich Uczel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Łódź, 22 października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Wysokie technologie – High Te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333399"/>
                </a:solidFill>
                <a:latin typeface="Arial"/>
              </a:rPr>
              <a:t>Def. produktowa OECD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- Poziom wydatków na działalność B+R w stosunku do wartości produkcji sprzedane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333399"/>
                </a:solidFill>
                <a:latin typeface="Arial"/>
              </a:rPr>
              <a:t>Def. dziedzinowa OECD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- np.. Produkcja statków powietrznych i kosmiczny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333399"/>
                </a:solidFill>
                <a:latin typeface="Arial"/>
              </a:rPr>
              <a:t>Def. horyzontalna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– wykorzystanie technologii uznawanych za zaawansowane technologicz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yniki bada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spółpraca z gospodark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Na podstawie badań przeprowadzonych dla PARP w 2009 r. wśród przedsiębiorców, pracowników naukowych, przedstawicieli medi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45400" y="6021360"/>
            <a:ext cx="24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yniki niepublikow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459640" cy="59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kiego rodzaju innowacje wprowadziło Pana/i przedsiębiorstwo w ciągu ostatnich 3 lat?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Object 2" descr=""/>
          <p:cNvPicPr/>
          <p:nvPr/>
        </p:nvPicPr>
        <p:blipFill>
          <a:blip r:embed="rId1"/>
          <a:stretch/>
        </p:blipFill>
        <p:spPr>
          <a:xfrm>
            <a:off x="203040" y="1359000"/>
            <a:ext cx="8267760" cy="42418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7"/>
          <p:cNvSpPr/>
          <p:nvPr/>
        </p:nvSpPr>
        <p:spPr>
          <a:xfrm>
            <a:off x="212760" y="5797440"/>
            <a:ext cx="8197920" cy="64152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8398a"/>
                </a:solidFill>
                <a:latin typeface="Verdana"/>
              </a:rPr>
              <a:t>Mimo tego, że innowacje są przede wszystkim rozumiane jako wprowadzenie nowego produktu lub technologii to główną formą innowacji  występującą w polskich przedsiębiorstwach jest zakup maszyn lub urządzeń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6369120" y="6521400"/>
            <a:ext cx="171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rzedsiębiorst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250920" y="3860640"/>
            <a:ext cx="6464160" cy="1440000"/>
          </a:xfrm>
          <a:prstGeom prst="rect">
            <a:avLst/>
          </a:prstGeom>
          <a:noFill/>
          <a:ln w="25560">
            <a:solidFill>
              <a:srgbClr val="f518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5"/>
          <p:cNvSpPr/>
          <p:nvPr/>
        </p:nvSpPr>
        <p:spPr>
          <a:xfrm>
            <a:off x="6845400" y="6454800"/>
            <a:ext cx="2133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22B76-3936-4026-9DAF-F1B8E55D676C}" type="slidenum">
              <a:rPr b="1" lang="en-US" sz="1200" spc="-1" strike="noStrike">
                <a:solidFill>
                  <a:srgbClr val="3333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0" y="1066680"/>
            <a:ext cx="4216320" cy="3429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5"/>
          <p:cNvSpPr/>
          <p:nvPr/>
        </p:nvSpPr>
        <p:spPr>
          <a:xfrm>
            <a:off x="257040" y="736560"/>
            <a:ext cx="86630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zy firma współpracuje z sektorem nauki w jakimkolwiek zakresi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378000" y="5581800"/>
            <a:ext cx="8019720" cy="7506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8398a"/>
                </a:solidFill>
                <a:latin typeface="Verdana"/>
              </a:rPr>
              <a:t>Mniej niż połowa firm współpracuje z sektorem nauki w jakimkolwiek zakresi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8398a"/>
                </a:solidFill>
                <a:latin typeface="Verdana"/>
              </a:rPr>
              <a:t>Wśród przedsiębiorstw współpracujących z sektorem nauki, 3/4 z nich korzysta z wiedzy lub doświadczenia naukowców przy wprowadzaniu innowacj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3948120" y="2489040"/>
            <a:ext cx="519588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090cd"/>
                </a:solidFill>
                <a:latin typeface="Tahoma"/>
              </a:rPr>
              <a:t>15. Czy Pana/i przedsiębiorstwo korzysta z wiedzy naukowców przy wprowadzaniu innowacji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2"/>
          <a:stretch/>
        </p:blipFill>
        <p:spPr>
          <a:xfrm>
            <a:off x="4267080" y="2819520"/>
            <a:ext cx="4216680" cy="3429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2"/>
          <p:cNvSpPr/>
          <p:nvPr/>
        </p:nvSpPr>
        <p:spPr>
          <a:xfrm>
            <a:off x="8068680" y="4832280"/>
            <a:ext cx="6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Verdana"/>
              </a:rPr>
              <a:t>N=2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474120" y="3371760"/>
            <a:ext cx="6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Verdana"/>
              </a:rPr>
              <a:t>N=6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6369120" y="6521400"/>
            <a:ext cx="171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rzedsiębiorst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Łącznik łamany 12"/>
          <p:cNvCxnSpPr/>
          <p:nvPr/>
        </p:nvCxnSpPr>
        <p:spPr>
          <a:xfrm>
            <a:off x="3162240" y="2489040"/>
            <a:ext cx="750240" cy="216720"/>
          </a:xfrm>
          <a:prstGeom prst="bentConnector3">
            <a:avLst>
              <a:gd name="adj1" fmla="val 49975"/>
            </a:avLst>
          </a:prstGeom>
          <a:ln w="22320">
            <a:solidFill>
              <a:srgbClr val="86042a"/>
            </a:solidFill>
            <a:round/>
            <a:tailEnd len="med" type="arrow" w="med"/>
          </a:ln>
        </p:spPr>
      </p:cxnSp>
      <p:sp>
        <p:nvSpPr>
          <p:cNvPr id="121" name="Rectangle 35"/>
          <p:cNvSpPr/>
          <p:nvPr/>
        </p:nvSpPr>
        <p:spPr>
          <a:xfrm>
            <a:off x="6845400" y="6454800"/>
            <a:ext cx="2133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3D6C4-61F9-4066-A270-D16AA8E78155}" type="slidenum">
              <a:rPr b="1" lang="en-US" sz="1200" spc="-1" strike="noStrike">
                <a:solidFill>
                  <a:srgbClr val="3333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82240" y="800280"/>
            <a:ext cx="8459640" cy="59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Z kim konkretnie współpracuje Pana/i firma w zakresie wprowadzania innowacji? </a:t>
            </a:r>
            <a:br>
              <a:rPr sz="1800"/>
            </a:b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 (pytanie wielowyborow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Object 2" descr=""/>
          <p:cNvPicPr/>
          <p:nvPr/>
        </p:nvPicPr>
        <p:blipFill>
          <a:blip r:embed="rId1"/>
          <a:stretch/>
        </p:blipFill>
        <p:spPr>
          <a:xfrm>
            <a:off x="949320" y="1585800"/>
            <a:ext cx="7566120" cy="47372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7"/>
          <p:cNvSpPr/>
          <p:nvPr/>
        </p:nvSpPr>
        <p:spPr>
          <a:xfrm>
            <a:off x="4610160" y="4579920"/>
            <a:ext cx="3797280" cy="9694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8398a"/>
                </a:solidFill>
                <a:latin typeface="Verdana"/>
              </a:rPr>
              <a:t>Znaczny odsetek firm współpracujących z sektorem nauki w zakresie wprowadzenia innowacji  kontaktuje się bezpośrednio z naukowcam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7"/>
          <p:cNvSpPr/>
          <p:nvPr/>
        </p:nvSpPr>
        <p:spPr>
          <a:xfrm>
            <a:off x="3884760" y="3681360"/>
            <a:ext cx="914400" cy="469800"/>
          </a:xfrm>
          <a:prstGeom prst="ellipse">
            <a:avLst/>
          </a:prstGeom>
          <a:noFill/>
          <a:ln w="28440">
            <a:solidFill>
              <a:srgbClr val="f518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6369120" y="6521400"/>
            <a:ext cx="171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rzedsiębiorst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5"/>
          <p:cNvSpPr/>
          <p:nvPr/>
        </p:nvSpPr>
        <p:spPr>
          <a:xfrm>
            <a:off x="6845400" y="6454800"/>
            <a:ext cx="2133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9B6C9-F77E-479F-A588-48FCB2B0273B}" type="slidenum">
              <a:rPr b="1" lang="en-US" sz="1200" spc="-1" strike="noStrike">
                <a:solidFill>
                  <a:srgbClr val="3333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8459640" cy="59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Kto był inicjatorem współpracy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(pytanie wielowyborow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Object 2" descr=""/>
          <p:cNvPicPr/>
          <p:nvPr/>
        </p:nvPicPr>
        <p:blipFill>
          <a:blip r:embed="rId1"/>
          <a:stretch/>
        </p:blipFill>
        <p:spPr>
          <a:xfrm>
            <a:off x="254160" y="1562040"/>
            <a:ext cx="7353000" cy="47372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7"/>
          <p:cNvSpPr/>
          <p:nvPr/>
        </p:nvSpPr>
        <p:spPr>
          <a:xfrm>
            <a:off x="4229280" y="4186080"/>
            <a:ext cx="4076640" cy="7506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8398a"/>
                </a:solidFill>
                <a:latin typeface="Verdana"/>
              </a:rPr>
              <a:t>W większości przypadków firmy postrzegają same siebie jako inicjatorów kontaktów </a:t>
            </a:r>
            <a:br>
              <a:rPr sz="1200"/>
            </a:br>
            <a:r>
              <a:rPr b="1" lang="en-US" sz="1200" spc="-1" strike="noStrike">
                <a:solidFill>
                  <a:srgbClr val="18398a"/>
                </a:solidFill>
                <a:latin typeface="Verdana"/>
              </a:rPr>
              <a:t>z sektorem  nauk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6369120" y="6521400"/>
            <a:ext cx="171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rzedsiębiorst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5"/>
          <p:cNvSpPr/>
          <p:nvPr/>
        </p:nvSpPr>
        <p:spPr>
          <a:xfrm>
            <a:off x="6845400" y="6454800"/>
            <a:ext cx="2133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F6ED9-2C38-4CC3-97D6-A662002947DD}" type="slidenum">
              <a:rPr b="1" lang="en-US" sz="1200" spc="-1" strike="noStrike">
                <a:solidFill>
                  <a:srgbClr val="3333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190440" y="925920"/>
            <a:ext cx="829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3399"/>
                </a:solidFill>
                <a:latin typeface="Tahoma"/>
              </a:rPr>
              <a:t>[respondenci, którzy współpracują z przedsiębiorcami przy prowadzeniu projektów innowacyjnych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ole tekstowe 5"/>
          <p:cNvSpPr/>
          <p:nvPr/>
        </p:nvSpPr>
        <p:spPr>
          <a:xfrm>
            <a:off x="5765760" y="6458040"/>
            <a:ext cx="26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Jednostki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naukow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ole tekstowe 7"/>
          <p:cNvSpPr/>
          <p:nvPr/>
        </p:nvSpPr>
        <p:spPr>
          <a:xfrm>
            <a:off x="216000" y="5816520"/>
            <a:ext cx="8204040" cy="520200"/>
          </a:xfrm>
          <a:prstGeom prst="rect">
            <a:avLst/>
          </a:prstGeom>
          <a:noFill/>
          <a:ln w="9360">
            <a:solidFill>
              <a:srgbClr val="1026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265e"/>
                </a:solidFill>
                <a:latin typeface="Verdana"/>
              </a:rPr>
              <a:t>Według opinii przedstawicieli jednostek naukowych to oni są głównie inicjatorami współpracy z sektorem gospodark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Wykres 5" descr=""/>
          <p:cNvPicPr/>
          <p:nvPr/>
        </p:nvPicPr>
        <p:blipFill>
          <a:blip r:embed="rId1"/>
          <a:stretch/>
        </p:blipFill>
        <p:spPr>
          <a:xfrm>
            <a:off x="334800" y="1341360"/>
            <a:ext cx="7875720" cy="4376880"/>
          </a:xfrm>
          <a:prstGeom prst="rect">
            <a:avLst/>
          </a:prstGeom>
          <a:ln w="0">
            <a:noFill/>
          </a:ln>
        </p:spPr>
      </p:pic>
      <p:sp>
        <p:nvSpPr>
          <p:cNvPr id="137" name="pole tekstowe 6"/>
          <p:cNvSpPr/>
          <p:nvPr/>
        </p:nvSpPr>
        <p:spPr>
          <a:xfrm>
            <a:off x="276480" y="5359320"/>
            <a:ext cx="62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8398a"/>
                </a:solidFill>
                <a:latin typeface="Verdana"/>
              </a:rPr>
              <a:t>N=6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5"/>
          <p:cNvSpPr/>
          <p:nvPr/>
        </p:nvSpPr>
        <p:spPr>
          <a:xfrm>
            <a:off x="6845400" y="6454800"/>
            <a:ext cx="2133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D3F44-9C82-4F6B-A58F-E0A01FA1054D}" type="slidenum">
              <a:rPr b="1" lang="en-US" sz="1200" spc="-1" strike="noStrike">
                <a:solidFill>
                  <a:srgbClr val="3333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250920" y="404640"/>
            <a:ext cx="845964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Kto był inicjatorem współpracy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(pytanie wielowyborow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459640" cy="59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k Pan/i ocenia współpracę z jednostkami naukowymi?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zy ocenie proszę wybrać jedną z odpowiedzi:</a:t>
            </a:r>
            <a:br>
              <a:rPr sz="2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Object 2" descr=""/>
          <p:cNvPicPr/>
          <p:nvPr/>
        </p:nvPicPr>
        <p:blipFill>
          <a:blip r:embed="rId1"/>
          <a:stretch/>
        </p:blipFill>
        <p:spPr>
          <a:xfrm>
            <a:off x="444600" y="1473120"/>
            <a:ext cx="8496360" cy="406404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6"/>
          <p:cNvSpPr/>
          <p:nvPr/>
        </p:nvSpPr>
        <p:spPr>
          <a:xfrm>
            <a:off x="4444920" y="2340000"/>
            <a:ext cx="368280" cy="2803680"/>
          </a:xfrm>
          <a:custGeom>
            <a:avLst/>
            <a:gdLst>
              <a:gd name="textAreaLeft" fmla="*/ 0 w 368280"/>
              <a:gd name="textAreaRight" fmla="*/ 132840 w 368280"/>
              <a:gd name="textAreaTop" fmla="*/ 76680 h 2803680"/>
              <a:gd name="textAreaBottom" fmla="*/ 2727000 h 2803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46"/>
                  <a:pt x="10800" y="1891"/>
                </a:cubicBezTo>
                <a:lnTo>
                  <a:pt x="10800" y="8909"/>
                </a:lnTo>
                <a:cubicBezTo>
                  <a:pt x="10800" y="9855"/>
                  <a:pt x="16200" y="10800"/>
                  <a:pt x="21600" y="10800"/>
                </a:cubicBezTo>
                <a:cubicBezTo>
                  <a:pt x="16200" y="10800"/>
                  <a:pt x="10800" y="11746"/>
                  <a:pt x="10800" y="12691"/>
                </a:cubicBezTo>
                <a:lnTo>
                  <a:pt x="10800" y="19709"/>
                </a:lnTo>
                <a:cubicBezTo>
                  <a:pt x="10800" y="2065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190440" y="5530680"/>
            <a:ext cx="8166240" cy="53172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8398a"/>
                </a:solidFill>
                <a:latin typeface="Verdana"/>
              </a:rPr>
              <a:t>Współpraca przedsiębiorców z jednostkami naukowymi oceniana jest przez tych pierwszych bardzo wysok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5013720" y="3557520"/>
            <a:ext cx="1765800" cy="3070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66"/>
                </a:solidFill>
                <a:latin typeface="Verdana"/>
              </a:rPr>
              <a:t>Top 2 boxes – 8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6369120" y="6521400"/>
            <a:ext cx="171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rzedsiębiorst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2493000" y="1390680"/>
            <a:ext cx="2070360" cy="307080"/>
          </a:xfrm>
          <a:prstGeom prst="rect">
            <a:avLst/>
          </a:prstGeom>
          <a:noFill/>
          <a:ln w="38160">
            <a:solidFill>
              <a:srgbClr val="f518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Średnia ocena – 3,25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ole tekstowe 8"/>
          <p:cNvSpPr/>
          <p:nvPr/>
        </p:nvSpPr>
        <p:spPr>
          <a:xfrm>
            <a:off x="719640" y="6159600"/>
            <a:ext cx="557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18398a"/>
                </a:solidFill>
                <a:latin typeface="Verdana"/>
              </a:rPr>
              <a:t>* średnia ocen w skali 4-stopniowej (4=bardzo dobrze, 1=bardzo ź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5"/>
          <p:cNvSpPr/>
          <p:nvPr/>
        </p:nvSpPr>
        <p:spPr>
          <a:xfrm>
            <a:off x="6845400" y="6454800"/>
            <a:ext cx="2133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95460-6B42-4444-95CD-DFD8BA6A2328}" type="slidenum">
              <a:rPr b="1" lang="en-US" sz="1200" spc="-1" strike="noStrike">
                <a:solidFill>
                  <a:srgbClr val="3333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2240" y="825480"/>
            <a:ext cx="8459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Jakie są motywy nawiązywania współpracy z jednostki naukowymi?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(pytanie wielowyborowe)</a:t>
            </a:r>
            <a:br>
              <a:rPr sz="2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336600" y="5924520"/>
            <a:ext cx="8020080" cy="53172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8398a"/>
                </a:solidFill>
                <a:latin typeface="Verdana"/>
              </a:rPr>
              <a:t>Jednym z motywów nawiązywania współpracy z jednostkami naukowymi jest możliwość korzystania z ich urządzeń badawczy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6369120" y="6521400"/>
            <a:ext cx="171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rzedsiębiorst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Wykres 7" descr=""/>
          <p:cNvPicPr/>
          <p:nvPr/>
        </p:nvPicPr>
        <p:blipFill>
          <a:blip r:embed="rId1"/>
          <a:stretch/>
        </p:blipFill>
        <p:spPr>
          <a:xfrm>
            <a:off x="195120" y="1378080"/>
            <a:ext cx="8461440" cy="4546440"/>
          </a:xfrm>
          <a:prstGeom prst="rect">
            <a:avLst/>
          </a:prstGeom>
          <a:ln w="0">
            <a:noFill/>
          </a:ln>
        </p:spPr>
      </p:pic>
      <p:sp>
        <p:nvSpPr>
          <p:cNvPr id="153" name="Oval 8"/>
          <p:cNvSpPr/>
          <p:nvPr/>
        </p:nvSpPr>
        <p:spPr>
          <a:xfrm>
            <a:off x="6324480" y="4038480"/>
            <a:ext cx="914400" cy="470160"/>
          </a:xfrm>
          <a:prstGeom prst="ellipse">
            <a:avLst/>
          </a:prstGeom>
          <a:noFill/>
          <a:ln w="28440">
            <a:solidFill>
              <a:srgbClr val="f518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5"/>
          <p:cNvSpPr/>
          <p:nvPr/>
        </p:nvSpPr>
        <p:spPr>
          <a:xfrm>
            <a:off x="6845400" y="6454800"/>
            <a:ext cx="2133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075DB-1F20-4F88-A403-4EA11CE29BE1}" type="slidenum">
              <a:rPr b="1" lang="en-US" sz="1200" spc="-1" strike="noStrike">
                <a:solidFill>
                  <a:srgbClr val="3333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0" y="1574640"/>
            <a:ext cx="4915080" cy="26290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5"/>
          <p:cNvSpPr/>
          <p:nvPr/>
        </p:nvSpPr>
        <p:spPr>
          <a:xfrm>
            <a:off x="257040" y="800280"/>
            <a:ext cx="84600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zy rozważał/a Pan/i możliwość współpracy z jednostkami naukowymi/naukowcam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3399"/>
                </a:solidFill>
                <a:latin typeface="Tahoma"/>
              </a:rPr>
              <a:t>Pytanie zadawane respondentom, którzy wskazali odpowiedź, że nie współpracują  z jednostkami naukowym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4"/>
          <p:cNvSpPr/>
          <p:nvPr/>
        </p:nvSpPr>
        <p:spPr>
          <a:xfrm>
            <a:off x="237960" y="4552920"/>
            <a:ext cx="3381480" cy="53172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8398a"/>
                </a:solidFill>
                <a:latin typeface="Verdana"/>
              </a:rPr>
              <a:t>Większość firm, które nie współpracują z sektorem nauki, rozważa taką możliwość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Object 3" descr=""/>
          <p:cNvPicPr/>
          <p:nvPr/>
        </p:nvPicPr>
        <p:blipFill>
          <a:blip r:embed="rId2"/>
          <a:stretch/>
        </p:blipFill>
        <p:spPr>
          <a:xfrm>
            <a:off x="4343400" y="2921040"/>
            <a:ext cx="4800600" cy="327672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5"/>
          <p:cNvSpPr/>
          <p:nvPr/>
        </p:nvSpPr>
        <p:spPr>
          <a:xfrm>
            <a:off x="4762440" y="2019240"/>
            <a:ext cx="41911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5090cd"/>
                </a:solidFill>
                <a:latin typeface="Tahoma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Dlaczego nie rozważali Państwo współpracy z jednostkami naukowymi? </a:t>
            </a:r>
            <a:br>
              <a:rPr sz="1800"/>
            </a:br>
            <a:r>
              <a:rPr b="0" i="1" lang="pl-PL" sz="1800" spc="-1" strike="noStrike">
                <a:solidFill>
                  <a:srgbClr val="000000"/>
                </a:solidFill>
                <a:latin typeface="Tahoma"/>
              </a:rPr>
              <a:t> (pytanie wielowyborow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96480" y="2863800"/>
            <a:ext cx="6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Verdana"/>
              </a:rPr>
              <a:t>N=3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6369120" y="6521400"/>
            <a:ext cx="171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rzedsiębiorst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4"/>
          <p:cNvSpPr/>
          <p:nvPr/>
        </p:nvSpPr>
        <p:spPr>
          <a:xfrm>
            <a:off x="7756560" y="5924520"/>
            <a:ext cx="56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Verdana"/>
              </a:rPr>
              <a:t>N=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upa 36"/>
          <p:cNvGrpSpPr/>
          <p:nvPr/>
        </p:nvGrpSpPr>
        <p:grpSpPr>
          <a:xfrm>
            <a:off x="1638360" y="1993680"/>
            <a:ext cx="3099240" cy="393840"/>
            <a:chOff x="1638360" y="1993680"/>
            <a:chExt cx="3099240" cy="393840"/>
          </a:xfrm>
        </p:grpSpPr>
        <p:sp>
          <p:nvSpPr>
            <p:cNvPr id="164" name="Łącznik prosty 31"/>
            <p:cNvSpPr/>
            <p:nvPr/>
          </p:nvSpPr>
          <p:spPr>
            <a:xfrm flipH="1" flipV="1">
              <a:off x="1650600" y="2006640"/>
              <a:ext cx="12600" cy="380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Łącznik prosty 33"/>
            <p:cNvSpPr/>
            <p:nvPr/>
          </p:nvSpPr>
          <p:spPr>
            <a:xfrm>
              <a:off x="1638360" y="1994040"/>
              <a:ext cx="26798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6" name="Łącznik łamany 35"/>
            <p:cNvCxnSpPr/>
            <p:nvPr/>
          </p:nvCxnSpPr>
          <p:spPr>
            <a:xfrm>
              <a:off x="4293000" y="1993680"/>
              <a:ext cx="444960" cy="267120"/>
            </a:xfrm>
            <a:prstGeom prst="bentConnector3">
              <a:avLst>
                <a:gd name="adj1" fmla="val 49959"/>
              </a:avLst>
            </a:prstGeom>
            <a:ln w="19080">
              <a:solidFill>
                <a:srgbClr val="ff0000"/>
              </a:solidFill>
              <a:round/>
              <a:tailEnd len="med" type="arrow" w="med"/>
            </a:ln>
          </p:spPr>
        </p:cxnSp>
      </p:grpSp>
      <p:sp>
        <p:nvSpPr>
          <p:cNvPr id="167" name="Rectangle 35"/>
          <p:cNvSpPr/>
          <p:nvPr/>
        </p:nvSpPr>
        <p:spPr>
          <a:xfrm>
            <a:off x="6845400" y="6454800"/>
            <a:ext cx="2133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CD283-30B1-4D54-B25D-9484F59A77B0}" type="slidenum">
              <a:rPr b="1" lang="en-US" sz="1200" spc="-1" strike="noStrike">
                <a:solidFill>
                  <a:srgbClr val="3333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yniki bada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zedsiębiorczość akademick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Na podstawie badań przeprowadzonych dla PARP wśród studentów i kadry naukowo-dydaktyczne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82440" y="5373720"/>
            <a:ext cx="725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edsiębiorczość akademicka (rozwój firm spin-off, spin-ou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potrzebowanie na szkolenia służące rozwojowi. Raport z badani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ARP, Warszawa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Object 2" descr=""/>
          <p:cNvPicPr/>
          <p:nvPr/>
        </p:nvPicPr>
        <p:blipFill>
          <a:blip r:embed="rId1"/>
          <a:stretch/>
        </p:blipFill>
        <p:spPr>
          <a:xfrm>
            <a:off x="496800" y="1427040"/>
            <a:ext cx="7605720" cy="470232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5"/>
          <p:cNvSpPr/>
          <p:nvPr/>
        </p:nvSpPr>
        <p:spPr>
          <a:xfrm>
            <a:off x="257040" y="787320"/>
            <a:ext cx="84600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czy wiedzą Państwo, w jaki sposób nawiązywać współpracę z jednostkami naukowym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6651720" y="3867120"/>
            <a:ext cx="56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Verdana"/>
              </a:rPr>
              <a:t>N=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6369120" y="6521400"/>
            <a:ext cx="171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rzedsiębiorst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5"/>
          <p:cNvSpPr/>
          <p:nvPr/>
        </p:nvSpPr>
        <p:spPr>
          <a:xfrm>
            <a:off x="6845400" y="6454800"/>
            <a:ext cx="2133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F68A8-7948-4478-8FE3-95F9E2D1B902}" type="slidenum">
              <a:rPr b="1" lang="en-US" sz="1200" spc="-1" strike="noStrike">
                <a:solidFill>
                  <a:srgbClr val="3333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 strony nau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e zna Pan/i osób na swojej uczelni, które obecnie współpracują z firmami komercyjnymi/instytucjam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Object 3"/>
          <p:cNvGraphicFramePr/>
          <p:nvPr/>
        </p:nvGraphicFramePr>
        <p:xfrm>
          <a:off x="1116000" y="1457280"/>
          <a:ext cx="7128000" cy="496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457280"/>
                    <a:ext cx="7128000" cy="496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adania naukowe, które prowadzę mogą być z powodzeniem zastosowane w praktyce (np. przez firmy, instytucj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Object 3"/>
          <p:cNvGraphicFramePr/>
          <p:nvPr/>
        </p:nvGraphicFramePr>
        <p:xfrm>
          <a:off x="684360" y="1254240"/>
          <a:ext cx="8064360" cy="54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254240"/>
                    <a:ext cx="806436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31840" y="787320"/>
            <a:ext cx="8696160" cy="59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zy wyniki badań prowadzonych w jednostce w ciągu ostatnich 3 lat zostały skomercjalizowane/wykorzystane w biznesi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Wykres 4" descr=""/>
          <p:cNvPicPr/>
          <p:nvPr/>
        </p:nvPicPr>
        <p:blipFill>
          <a:blip r:embed="rId1"/>
          <a:stretch/>
        </p:blipFill>
        <p:spPr>
          <a:xfrm>
            <a:off x="195120" y="1395360"/>
            <a:ext cx="6315120" cy="4694400"/>
          </a:xfrm>
          <a:prstGeom prst="rect">
            <a:avLst/>
          </a:prstGeom>
          <a:ln w="0">
            <a:noFill/>
          </a:ln>
        </p:spPr>
      </p:pic>
      <p:sp>
        <p:nvSpPr>
          <p:cNvPr id="183" name="pole tekstowe 3"/>
          <p:cNvSpPr/>
          <p:nvPr/>
        </p:nvSpPr>
        <p:spPr>
          <a:xfrm>
            <a:off x="5765760" y="6458040"/>
            <a:ext cx="26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Jednostki naukow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ole tekstowe 5"/>
          <p:cNvSpPr/>
          <p:nvPr/>
        </p:nvSpPr>
        <p:spPr>
          <a:xfrm>
            <a:off x="5816520" y="3430440"/>
            <a:ext cx="3048120" cy="946440"/>
          </a:xfrm>
          <a:prstGeom prst="rect">
            <a:avLst/>
          </a:prstGeom>
          <a:noFill/>
          <a:ln w="9360">
            <a:solidFill>
              <a:srgbClr val="1026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265e"/>
                </a:solidFill>
                <a:latin typeface="Verdana"/>
              </a:rPr>
              <a:t>W opinii połowy badanych, wyniki badań prowadzone w jednostkach naukowych są częściowo komercjalizowa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5"/>
          <p:cNvSpPr/>
          <p:nvPr/>
        </p:nvSpPr>
        <p:spPr>
          <a:xfrm>
            <a:off x="6845400" y="6454800"/>
            <a:ext cx="2133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FCAF6-EB68-4117-B600-9ED8D95A2978}" type="slidenum">
              <a:rPr b="1" lang="en-US" sz="1200" spc="-1" strike="noStrike">
                <a:solidFill>
                  <a:srgbClr val="3333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Wykres 2" descr=""/>
          <p:cNvPicPr/>
          <p:nvPr/>
        </p:nvPicPr>
        <p:blipFill>
          <a:blip r:embed="rId1"/>
          <a:stretch/>
        </p:blipFill>
        <p:spPr>
          <a:xfrm>
            <a:off x="438120" y="1798560"/>
            <a:ext cx="3951360" cy="268776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42512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zy jednostka współpracuje z przedsiębiorstwami w jakimkolwiek zakresi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5508720" y="1052640"/>
          <a:ext cx="3384360" cy="5383080"/>
        </p:xfrm>
        <a:graphic>
          <a:graphicData uri="http://schemas.openxmlformats.org/drawingml/2006/table">
            <a:tbl>
              <a:tblPr/>
              <a:tblGrid>
                <a:gridCol w="3384360"/>
              </a:tblGrid>
              <a:tr h="707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Powody niepodejmowania współpracy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- brak potrzeby takiej współprac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8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- brak zainteresowania ze strony przedsiębiorstw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33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- zbyt wysokie narzuty instytucji naukowych zwiększające koszty badań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33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- nieuregulowany system zarządzania własnością intelektualną w jednostc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9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- niezrozumienie przez naukowców zasad biznesu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33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- zbyt skomplikowane procedury wewnątrz uczelni\jednostki naukowej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8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- nieadekwatność badań do potrzeb rynku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89" name="Łącznik łamany 10"/>
          <p:cNvCxnSpPr/>
          <p:nvPr/>
        </p:nvCxnSpPr>
        <p:spPr>
          <a:xfrm flipV="1">
            <a:off x="2114280" y="1978920"/>
            <a:ext cx="3454920" cy="623160"/>
          </a:xfrm>
          <a:prstGeom prst="bentConnector3">
            <a:avLst>
              <a:gd name="adj1" fmla="val 50000"/>
            </a:avLst>
          </a:prstGeom>
          <a:ln w="38160">
            <a:solidFill>
              <a:srgbClr val="0070c0"/>
            </a:solidFill>
            <a:round/>
            <a:headEnd len="med" type="diamond" w="med"/>
            <a:tailEnd len="lg" type="arrow" w="med"/>
          </a:ln>
        </p:spPr>
      </p:cxnSp>
      <p:sp>
        <p:nvSpPr>
          <p:cNvPr id="190" name="pole tekstowe 5"/>
          <p:cNvSpPr/>
          <p:nvPr/>
        </p:nvSpPr>
        <p:spPr>
          <a:xfrm>
            <a:off x="5727600" y="6458040"/>
            <a:ext cx="266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Jednostki naukow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4788000" y="404640"/>
            <a:ext cx="407664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</a:rPr>
              <a:t>Dlaczego Państwo nie podejmują współpracy z przedsiębiorstwami* </a:t>
            </a:r>
            <a:br>
              <a:rPr sz="1400"/>
            </a:br>
            <a:r>
              <a:rPr b="0" i="1" lang="pl-PL" sz="1400" spc="-1" strike="noStrike">
                <a:solidFill>
                  <a:srgbClr val="000000"/>
                </a:solidFill>
                <a:latin typeface="Verdana"/>
              </a:rPr>
              <a:t> (pytanie wielowyborowe)</a:t>
            </a: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pl-PL" sz="1400" spc="-1" strike="noStrike">
                <a:solidFill>
                  <a:srgbClr val="000000"/>
                </a:solidFill>
                <a:latin typeface="Tahoma"/>
              </a:rPr>
              <a:t>N=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ole tekstowe 9"/>
          <p:cNvSpPr/>
          <p:nvPr/>
        </p:nvSpPr>
        <p:spPr>
          <a:xfrm>
            <a:off x="244800" y="3797280"/>
            <a:ext cx="7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8398a"/>
                </a:solidFill>
                <a:latin typeface="Verdana"/>
              </a:rPr>
              <a:t>N=1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241200" y="4152960"/>
            <a:ext cx="398808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090cd"/>
                </a:solidFill>
                <a:latin typeface="Tahoma"/>
              </a:rPr>
              <a:t>11. Czy wie Pan/i, że istnieje możliwość współpracy z przedsiębiorstwami?</a:t>
            </a: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*</a:t>
            </a:r>
            <a:r>
              <a:rPr b="0" i="1" lang="en-US" sz="1400" spc="-1" strike="noStrike">
                <a:solidFill>
                  <a:srgbClr val="5090cd"/>
                </a:solidFill>
                <a:latin typeface="Tahoma"/>
              </a:rPr>
              <a:t> N=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ole tekstowe 11"/>
          <p:cNvSpPr/>
          <p:nvPr/>
        </p:nvSpPr>
        <p:spPr>
          <a:xfrm>
            <a:off x="487800" y="4749840"/>
            <a:ext cx="172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8398a"/>
                </a:solidFill>
                <a:latin typeface="Verdana"/>
              </a:rPr>
              <a:t>Tak – 91%, Nie –   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203040" y="5079960"/>
            <a:ext cx="403884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090cd"/>
                </a:solidFill>
                <a:latin typeface="Tahoma"/>
              </a:rPr>
              <a:t>13. Czy wiedzą Państwo, jak nawiązań współpracę z przedsiębiorcami?</a:t>
            </a: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*</a:t>
            </a:r>
            <a:r>
              <a:rPr b="0" i="1" lang="en-US" sz="1400" spc="-1" strike="noStrike">
                <a:solidFill>
                  <a:srgbClr val="5090cd"/>
                </a:solidFill>
                <a:latin typeface="Tahoma"/>
              </a:rPr>
              <a:t> N=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ole tekstowe 19"/>
          <p:cNvSpPr/>
          <p:nvPr/>
        </p:nvSpPr>
        <p:spPr>
          <a:xfrm>
            <a:off x="254160" y="56642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8398a"/>
                </a:solidFill>
                <a:latin typeface="Verdana"/>
              </a:rPr>
              <a:t>Tak – 90%, Nie – 1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ole tekstowe 20"/>
          <p:cNvSpPr/>
          <p:nvPr/>
        </p:nvSpPr>
        <p:spPr>
          <a:xfrm>
            <a:off x="492840" y="6108840"/>
            <a:ext cx="3454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Verdana"/>
              </a:rPr>
              <a:t>* Zbyt mała podstawa do analiz statystycznyc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5"/>
          <p:cNvSpPr/>
          <p:nvPr/>
        </p:nvSpPr>
        <p:spPr>
          <a:xfrm>
            <a:off x="6845400" y="6454800"/>
            <a:ext cx="2133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69977-DF43-40D1-A19C-4A2DCCAF1C85}" type="slidenum">
              <a:rPr b="1" lang="en-US" sz="1200" spc="-1" strike="noStrike">
                <a:solidFill>
                  <a:srgbClr val="3333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8"/>
          <p:cNvSpPr/>
          <p:nvPr/>
        </p:nvSpPr>
        <p:spPr>
          <a:xfrm>
            <a:off x="1766880" y="0"/>
            <a:ext cx="552600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1995480" y="0"/>
            <a:ext cx="552600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8"/>
          <p:cNvSpPr/>
          <p:nvPr/>
        </p:nvSpPr>
        <p:spPr>
          <a:xfrm>
            <a:off x="2008080" y="0"/>
            <a:ext cx="552636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0" y="1031760"/>
            <a:ext cx="8661240" cy="18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4"/>
          <p:cNvSpPr/>
          <p:nvPr/>
        </p:nvSpPr>
        <p:spPr>
          <a:xfrm>
            <a:off x="192240" y="2662200"/>
            <a:ext cx="86868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190440" y="534600"/>
            <a:ext cx="829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90cd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zy jednostka współpracuje z przedsiębiorstwami przy prowadzaniu projektów innowacyjnyc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[pytanie zadawane respondentom, którzy  współpracują z przedsiębiorcami w jakimkolwiek zakresi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Wykres 14" descr=""/>
          <p:cNvPicPr/>
          <p:nvPr/>
        </p:nvPicPr>
        <p:blipFill>
          <a:blip r:embed="rId1"/>
          <a:stretch/>
        </p:blipFill>
        <p:spPr>
          <a:xfrm>
            <a:off x="244440" y="1670040"/>
            <a:ext cx="7661160" cy="3938760"/>
          </a:xfrm>
          <a:prstGeom prst="rect">
            <a:avLst/>
          </a:prstGeom>
          <a:ln w="0">
            <a:noFill/>
          </a:ln>
        </p:spPr>
      </p:pic>
      <p:sp>
        <p:nvSpPr>
          <p:cNvPr id="206" name="pole tekstowe 9"/>
          <p:cNvSpPr/>
          <p:nvPr/>
        </p:nvSpPr>
        <p:spPr>
          <a:xfrm>
            <a:off x="5892840" y="6458040"/>
            <a:ext cx="249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Jednostki naukow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ole tekstowe 10"/>
          <p:cNvSpPr/>
          <p:nvPr/>
        </p:nvSpPr>
        <p:spPr>
          <a:xfrm>
            <a:off x="266760" y="5715000"/>
            <a:ext cx="8077320" cy="520200"/>
          </a:xfrm>
          <a:prstGeom prst="rect">
            <a:avLst/>
          </a:prstGeom>
          <a:noFill/>
          <a:ln w="9360">
            <a:solidFill>
              <a:srgbClr val="1026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265e"/>
                </a:solidFill>
                <a:latin typeface="Verdana"/>
              </a:rPr>
              <a:t>Większość badanych twierdzi, że współpracuje z firmami przy realizacj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265e"/>
                </a:solidFill>
                <a:latin typeface="Verdana"/>
              </a:rPr>
              <a:t>projektów innowacyjny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ole tekstowe 11"/>
          <p:cNvSpPr/>
          <p:nvPr/>
        </p:nvSpPr>
        <p:spPr>
          <a:xfrm>
            <a:off x="314640" y="5232240"/>
            <a:ext cx="62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8398a"/>
                </a:solidFill>
                <a:latin typeface="Verdana"/>
              </a:rPr>
              <a:t>N=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35"/>
          <p:cNvSpPr/>
          <p:nvPr/>
        </p:nvSpPr>
        <p:spPr>
          <a:xfrm>
            <a:off x="6845400" y="6454800"/>
            <a:ext cx="2133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1C9D6-4886-4C1B-8F43-7283DE59E189}" type="slidenum">
              <a:rPr b="1" lang="en-US" sz="1200" spc="-1" strike="noStrike">
                <a:solidFill>
                  <a:srgbClr val="3333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845964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Jakie są motywy nawiązywania współpracy z przedsiębiorstwami?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(pytanie wielowyborow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ole tekstowe 3"/>
          <p:cNvSpPr/>
          <p:nvPr/>
        </p:nvSpPr>
        <p:spPr>
          <a:xfrm>
            <a:off x="5765760" y="6458040"/>
            <a:ext cx="26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Jednostki naukow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ole tekstowe 5"/>
          <p:cNvSpPr/>
          <p:nvPr/>
        </p:nvSpPr>
        <p:spPr>
          <a:xfrm>
            <a:off x="203040" y="5562720"/>
            <a:ext cx="8178840" cy="824040"/>
          </a:xfrm>
          <a:prstGeom prst="rect">
            <a:avLst/>
          </a:prstGeom>
          <a:noFill/>
          <a:ln w="9360">
            <a:solidFill>
              <a:srgbClr val="1026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0265e"/>
                </a:solidFill>
                <a:latin typeface="Verdana"/>
              </a:rPr>
              <a:t>Dla ponad 80% respondentów motywem współpracy jest możliwość realizacji projektów innowacyjnych, ale ponad połowa badanych jako motyw współpracy z przedsiębiorcami wskazała wymogi formalne związane z realizacją projektów dofinansowywanych </a:t>
            </a:r>
            <a:br>
              <a:rPr sz="1200"/>
            </a:br>
            <a:r>
              <a:rPr b="1" lang="en-US" sz="1200" spc="-1" strike="noStrike">
                <a:solidFill>
                  <a:srgbClr val="10265e"/>
                </a:solidFill>
                <a:latin typeface="Verdana"/>
              </a:rPr>
              <a:t>z funduszy strukturalny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rostokąt 7"/>
          <p:cNvSpPr/>
          <p:nvPr/>
        </p:nvSpPr>
        <p:spPr>
          <a:xfrm>
            <a:off x="177840" y="4699080"/>
            <a:ext cx="8191440" cy="6858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rostokąt 8"/>
          <p:cNvSpPr/>
          <p:nvPr/>
        </p:nvSpPr>
        <p:spPr>
          <a:xfrm>
            <a:off x="177840" y="2590920"/>
            <a:ext cx="8153280" cy="558720"/>
          </a:xfrm>
          <a:prstGeom prst="rect">
            <a:avLst/>
          </a:prstGeom>
          <a:noFill/>
          <a:ln w="9360">
            <a:solidFill>
              <a:srgbClr val="10265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Wykres 7" descr=""/>
          <p:cNvPicPr/>
          <p:nvPr/>
        </p:nvPicPr>
        <p:blipFill>
          <a:blip r:embed="rId1"/>
          <a:stretch/>
        </p:blipFill>
        <p:spPr>
          <a:xfrm>
            <a:off x="249120" y="1365120"/>
            <a:ext cx="7809120" cy="409104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35"/>
          <p:cNvSpPr/>
          <p:nvPr/>
        </p:nvSpPr>
        <p:spPr>
          <a:xfrm>
            <a:off x="6845400" y="6454800"/>
            <a:ext cx="2133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1EE49-AC81-4F0D-96E1-22CCA4D26820}" type="slidenum">
              <a:rPr b="1" lang="en-US" sz="1200" spc="-1" strike="noStrike">
                <a:solidFill>
                  <a:srgbClr val="3333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munikac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zedsiębior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dnostki nauko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Wykres 6" descr=""/>
          <p:cNvPicPr/>
          <p:nvPr/>
        </p:nvPicPr>
        <p:blipFill>
          <a:blip r:embed="rId1"/>
          <a:stretch/>
        </p:blipFill>
        <p:spPr>
          <a:xfrm>
            <a:off x="426960" y="1305000"/>
            <a:ext cx="8028000" cy="504036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57040" y="1066680"/>
            <a:ext cx="8460000" cy="59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Gdzie Pan/i poszukuje informacji dotyczących innowacyjnych rozwiązań dla swojej firmy?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(pytanie wielowyborowe)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9"/>
          <p:cNvSpPr/>
          <p:nvPr/>
        </p:nvSpPr>
        <p:spPr>
          <a:xfrm>
            <a:off x="5854680" y="4146480"/>
            <a:ext cx="2514600" cy="11883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8398a"/>
                </a:solidFill>
                <a:latin typeface="Verdana"/>
              </a:rPr>
              <a:t>Media oraz imprezy targowe to dla przedsiębiorstw podstawowe źródła informacji o innowacyjnych rozwiązania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6369120" y="6521400"/>
            <a:ext cx="171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rzedsiębiorst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ole tekstowe 7"/>
          <p:cNvSpPr/>
          <p:nvPr/>
        </p:nvSpPr>
        <p:spPr>
          <a:xfrm>
            <a:off x="358920" y="1930320"/>
            <a:ext cx="7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8398a"/>
                </a:solidFill>
                <a:latin typeface="Verdana"/>
              </a:rPr>
              <a:t>N=6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5"/>
          <p:cNvSpPr/>
          <p:nvPr/>
        </p:nvSpPr>
        <p:spPr>
          <a:xfrm>
            <a:off x="6845400" y="6454800"/>
            <a:ext cx="2133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AA22A-7E27-4932-9DAA-CC9BCED08A86}" type="slidenum">
              <a:rPr b="1" lang="en-US" sz="1200" spc="-1" strike="noStrike">
                <a:solidFill>
                  <a:srgbClr val="3333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jakiej perspektywie czasowej rozważał(a)by Pan/i założenie własnej firm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11280" y="1860480"/>
          <a:ext cx="8281800" cy="4186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860480"/>
                    <a:ext cx="8281800" cy="41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57040" y="851040"/>
            <a:ext cx="8460000" cy="59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Jakie są dla Pana/i preferowane formy pozyskiwania informacji na temat innowacji?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(pytanie wielowyborowe)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zedstawiciele mediów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N=90</a:t>
            </a:r>
            <a:br>
              <a:rPr sz="1800"/>
            </a:br>
            <a:br>
              <a:rPr sz="2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Object 2" descr=""/>
          <p:cNvPicPr/>
          <p:nvPr/>
        </p:nvPicPr>
        <p:blipFill>
          <a:blip r:embed="rId1"/>
          <a:stretch/>
        </p:blipFill>
        <p:spPr>
          <a:xfrm>
            <a:off x="165240" y="1562040"/>
            <a:ext cx="7213320" cy="472464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7"/>
          <p:cNvSpPr/>
          <p:nvPr/>
        </p:nvSpPr>
        <p:spPr>
          <a:xfrm>
            <a:off x="5079960" y="3498840"/>
            <a:ext cx="3317760" cy="22827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8398a"/>
                </a:solidFill>
                <a:latin typeface="Verdana"/>
              </a:rPr>
              <a:t>Dla mediów najbardziej preferowaną formą pozyskiwania informacji na temat innowacyjności są publikacje elektroniczne: strony internetowe/portale informacyjne oraz materiały przygotowane do publikacji dostarczane za pośrednictwem poczty elektroniczne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7409880" y="6553080"/>
            <a:ext cx="72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Me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5"/>
          <p:cNvSpPr/>
          <p:nvPr/>
        </p:nvSpPr>
        <p:spPr>
          <a:xfrm>
            <a:off x="6845400" y="6454800"/>
            <a:ext cx="2133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17DC2-9EE4-4F9A-99AE-7B579570D862}" type="slidenum">
              <a:rPr b="1" lang="en-US" sz="1200" spc="-1" strike="noStrike">
                <a:solidFill>
                  <a:srgbClr val="3333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rostokąt 1"/>
          <p:cNvSpPr/>
          <p:nvPr/>
        </p:nvSpPr>
        <p:spPr>
          <a:xfrm>
            <a:off x="179280" y="404640"/>
            <a:ext cx="873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Jakie działania prowadzi jednostka w zakresie promowania prowadzanych przez siebie badań naukowych o charakterze innowacyjnym</a:t>
            </a:r>
            <a:r>
              <a:rPr b="0" i="1" lang="pl-PL" sz="1600" spc="-1" strike="noStrike">
                <a:solidFill>
                  <a:srgbClr val="000000"/>
                </a:solidFill>
                <a:latin typeface="Tahoma"/>
              </a:rPr>
              <a:t>? (pytanie wielowyborow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ole tekstowe 3"/>
          <p:cNvSpPr/>
          <p:nvPr/>
        </p:nvSpPr>
        <p:spPr>
          <a:xfrm>
            <a:off x="5765760" y="6458040"/>
            <a:ext cx="26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Jednostki</a:t>
            </a:r>
            <a:r>
              <a:rPr b="1" i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aukow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Wykres 5" descr=""/>
          <p:cNvPicPr/>
          <p:nvPr/>
        </p:nvPicPr>
        <p:blipFill>
          <a:blip r:embed="rId1"/>
          <a:stretch/>
        </p:blipFill>
        <p:spPr>
          <a:xfrm>
            <a:off x="225360" y="1414440"/>
            <a:ext cx="8583840" cy="4967280"/>
          </a:xfrm>
          <a:prstGeom prst="rect">
            <a:avLst/>
          </a:prstGeom>
          <a:ln w="0">
            <a:noFill/>
          </a:ln>
        </p:spPr>
      </p:pic>
      <p:sp>
        <p:nvSpPr>
          <p:cNvPr id="233" name="pole tekstowe 4"/>
          <p:cNvSpPr/>
          <p:nvPr/>
        </p:nvSpPr>
        <p:spPr>
          <a:xfrm>
            <a:off x="5219640" y="4368960"/>
            <a:ext cx="3162240" cy="1585800"/>
          </a:xfrm>
          <a:prstGeom prst="rect">
            <a:avLst/>
          </a:prstGeom>
          <a:noFill/>
          <a:ln w="9360">
            <a:solidFill>
              <a:srgbClr val="1026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265e"/>
                </a:solidFill>
                <a:latin typeface="Verdana"/>
              </a:rPr>
              <a:t>Jedna czwarta jednostek </a:t>
            </a:r>
            <a:br>
              <a:rPr sz="1400"/>
            </a:br>
            <a:r>
              <a:rPr b="1" lang="en-US" sz="1400" spc="-1" strike="noStrike">
                <a:solidFill>
                  <a:srgbClr val="10265e"/>
                </a:solidFill>
                <a:latin typeface="Verdana"/>
              </a:rPr>
              <a:t>w ogóle nie prowadzi działań promujących badania naukowe o charakterze innowacyjnym, </a:t>
            </a:r>
            <a:br>
              <a:rPr sz="1400"/>
            </a:br>
            <a:r>
              <a:rPr b="1" lang="en-US" sz="1400" spc="-1" strike="noStrike">
                <a:solidFill>
                  <a:srgbClr val="10265e"/>
                </a:solidFill>
                <a:latin typeface="Verdana"/>
              </a:rPr>
              <a:t>a najpopularniejszą formą promocji są konferencje naukow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rostokąt 6"/>
          <p:cNvSpPr/>
          <p:nvPr/>
        </p:nvSpPr>
        <p:spPr>
          <a:xfrm>
            <a:off x="2260440" y="2793960"/>
            <a:ext cx="4610160" cy="3175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5"/>
          <p:cNvSpPr/>
          <p:nvPr/>
        </p:nvSpPr>
        <p:spPr>
          <a:xfrm>
            <a:off x="6845400" y="6454800"/>
            <a:ext cx="2133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A7172-DC86-4FA0-B860-017A6A78B579}" type="slidenum">
              <a:rPr b="1" lang="en-US" sz="1200" spc="-1" strike="noStrike">
                <a:solidFill>
                  <a:srgbClr val="3333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iektóre wnios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Należy zmienić formy kontaktowania się z przemysł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np.. poprzez wykorzystanie związków z absolwenta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docieranie poprzez media, a te wymagają innych form niż konferenc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iektóre wnioski i uwag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Możliwość wprowadzenia nowych wskaźników oceny jednostek naukowych dla zwiększenia motywacji współpracy – nowe ustawodawstw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Należy przeanalizować opłacalność wysokich narzutów – zmniejszenie szarej stref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Nacisk na ministerstwo finansów – zachęty podatkowe dla B+R (firmy na ogół nie wykazują takich działań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Konieczność zmian w zakresie interpretacji zasad pomocy publicznej i UZP w zakresie bada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zy jest Pan/i zainteresowany(a) założeniem własnej firmy komercyjnej w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ełni niezależnej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od uczelni (tzw. spin out), w której wykorzystywał(a)by Pan/i swoja wiedzę profesjonaln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042920" y="1989000"/>
          <a:ext cx="7632720" cy="385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989000"/>
                    <a:ext cx="7632720" cy="38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 ile jest Pan/i zainteresowany(a) założeniem własnej firmy komercyjnej 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zależnej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od uczelni (tzw. spin off), w której wykorzystywał(a)by Pan(i) swoją wiedzę profesjonaln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971640" y="2043000"/>
          <a:ext cx="7632720" cy="3857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043000"/>
                    <a:ext cx="7632720" cy="38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41"/>
          <p:cNvGraphicFramePr/>
          <p:nvPr/>
        </p:nvGraphicFramePr>
        <p:xfrm>
          <a:off x="1600200" y="836640"/>
          <a:ext cx="6665760" cy="47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836640"/>
                    <a:ext cx="6665760" cy="47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Text Box 43"/>
          <p:cNvSpPr/>
          <p:nvPr/>
        </p:nvSpPr>
        <p:spPr>
          <a:xfrm>
            <a:off x="1521000" y="5715000"/>
            <a:ext cx="18288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Raczej negatyw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Zdecydowanie negatyw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4"/>
          <p:cNvSpPr/>
          <p:nvPr/>
        </p:nvSpPr>
        <p:spPr>
          <a:xfrm>
            <a:off x="3567240" y="5715000"/>
            <a:ext cx="194472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Ani negatywne, ani pozytyw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5"/>
          <p:cNvSpPr/>
          <p:nvPr/>
        </p:nvSpPr>
        <p:spPr>
          <a:xfrm>
            <a:off x="5748480" y="5715000"/>
            <a:ext cx="1828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Raczej pozytyw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Zdecydowanie pozytyw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6"/>
          <p:cNvSpPr/>
          <p:nvPr/>
        </p:nvSpPr>
        <p:spPr>
          <a:xfrm>
            <a:off x="1519200" y="6400800"/>
            <a:ext cx="182880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Raczej niemożliw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Zdecydowanie niemożliw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7"/>
          <p:cNvSpPr/>
          <p:nvPr/>
        </p:nvSpPr>
        <p:spPr>
          <a:xfrm>
            <a:off x="3576600" y="6400800"/>
            <a:ext cx="194472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ni możliwe, ani niemożliw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8"/>
          <p:cNvSpPr/>
          <p:nvPr/>
        </p:nvSpPr>
        <p:spPr>
          <a:xfrm>
            <a:off x="5757840" y="6400800"/>
            <a:ext cx="1828800" cy="457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Raczej możliw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Zdecydowanie możliw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1"/>
          <p:cNvSpPr/>
          <p:nvPr/>
        </p:nvSpPr>
        <p:spPr>
          <a:xfrm>
            <a:off x="219240" y="647640"/>
            <a:ext cx="15444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ostaw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- ocena ce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-przekonanie behawioral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"/>
          <p:cNvGrpSpPr/>
          <p:nvPr/>
        </p:nvGrpSpPr>
        <p:grpSpPr>
          <a:xfrm>
            <a:off x="1042920" y="-128520"/>
            <a:ext cx="7108920" cy="6986520"/>
            <a:chOff x="1042920" y="-128520"/>
            <a:chExt cx="7108920" cy="6986520"/>
          </a:xfrm>
        </p:grpSpPr>
        <p:sp>
          <p:nvSpPr>
            <p:cNvPr id="73" name="AutoShape 5"/>
            <p:cNvSpPr/>
            <p:nvPr/>
          </p:nvSpPr>
          <p:spPr>
            <a:xfrm>
              <a:off x="1042920" y="-128520"/>
              <a:ext cx="7108920" cy="69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Group 6"/>
            <p:cNvGrpSpPr/>
            <p:nvPr/>
          </p:nvGrpSpPr>
          <p:grpSpPr>
            <a:xfrm>
              <a:off x="1042920" y="-124200"/>
              <a:ext cx="7108920" cy="6978240"/>
              <a:chOff x="1042920" y="-124200"/>
              <a:chExt cx="7108920" cy="6978240"/>
            </a:xfrm>
          </p:grpSpPr>
          <p:grpSp>
            <p:nvGrpSpPr>
              <p:cNvPr id="75" name="Group 7"/>
              <p:cNvGrpSpPr/>
              <p:nvPr/>
            </p:nvGrpSpPr>
            <p:grpSpPr>
              <a:xfrm>
                <a:off x="1042920" y="-124200"/>
                <a:ext cx="7108920" cy="6978240"/>
                <a:chOff x="1042920" y="-124200"/>
                <a:chExt cx="7108920" cy="6978240"/>
              </a:xfrm>
            </p:grpSpPr>
            <p:graphicFrame>
              <p:nvGraphicFramePr>
                <p:cNvPr id="76" name="Object 8"/>
                <p:cNvGraphicFramePr/>
                <p:nvPr/>
              </p:nvGraphicFramePr>
              <p:xfrm>
                <a:off x="2391120" y="365760"/>
                <a:ext cx="5760720" cy="526752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77" name="Object 8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2391120" y="365760"/>
                          <a:ext cx="5760720" cy="52675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78" name="Object 9"/>
                <p:cNvGraphicFramePr/>
                <p:nvPr/>
              </p:nvGraphicFramePr>
              <p:xfrm>
                <a:off x="1042920" y="-124200"/>
                <a:ext cx="1592640" cy="582768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79" name="Object 9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1042920" y="-124200"/>
                          <a:ext cx="1592640" cy="58276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80" name="Text Box 10"/>
                <p:cNvSpPr/>
                <p:nvPr/>
              </p:nvSpPr>
              <p:spPr>
                <a:xfrm>
                  <a:off x="1535040" y="5628600"/>
                  <a:ext cx="1960920" cy="489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900" spc="-1" strike="noStrike">
                      <a:solidFill>
                        <a:srgbClr val="000000"/>
                      </a:solidFill>
                      <a:latin typeface="Times New Roman"/>
                    </a:rPr>
                    <a:t>Raczej nie liczyłbym się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900" spc="-1" strike="noStrike">
                      <a:solidFill>
                        <a:srgbClr val="000000"/>
                      </a:solidFill>
                      <a:latin typeface="Times New Roman"/>
                    </a:rPr>
                    <a:t>Zdecydowanie nie liczyłbym się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Text Box 11"/>
                <p:cNvSpPr/>
                <p:nvPr/>
              </p:nvSpPr>
              <p:spPr>
                <a:xfrm>
                  <a:off x="3739320" y="5628600"/>
                  <a:ext cx="2085480" cy="48996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000" spc="-1" strike="noStrike">
                      <a:solidFill>
                        <a:srgbClr val="000000"/>
                      </a:solidFill>
                      <a:latin typeface="Times New Roman"/>
                    </a:rPr>
                    <a:t>Ani liczyłbym się, ani nie liczyłbym się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Text Box 12"/>
                <p:cNvSpPr/>
                <p:nvPr/>
              </p:nvSpPr>
              <p:spPr>
                <a:xfrm>
                  <a:off x="6068160" y="5628600"/>
                  <a:ext cx="1960920" cy="489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000" spc="-1" strike="noStrike">
                      <a:solidFill>
                        <a:srgbClr val="000000"/>
                      </a:solidFill>
                      <a:latin typeface="Times New Roman"/>
                    </a:rPr>
                    <a:t>Raczej liczyłbym się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000" spc="-1" strike="noStrike">
                      <a:solidFill>
                        <a:srgbClr val="000000"/>
                      </a:solidFill>
                      <a:latin typeface="Times New Roman"/>
                    </a:rPr>
                    <a:t>Zdecydowanie liczyłbym się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Text Box 13"/>
                <p:cNvSpPr/>
                <p:nvPr/>
              </p:nvSpPr>
              <p:spPr>
                <a:xfrm>
                  <a:off x="1532880" y="6364080"/>
                  <a:ext cx="1960920" cy="48996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000" spc="-1" strike="noStrike">
                      <a:solidFill>
                        <a:srgbClr val="000000"/>
                      </a:solidFill>
                      <a:latin typeface="Times New Roman"/>
                    </a:rPr>
                    <a:t>Raczej nie sprzyjałby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900" spc="-1" strike="noStrike">
                      <a:solidFill>
                        <a:srgbClr val="000000"/>
                      </a:solidFill>
                      <a:latin typeface="Times New Roman"/>
                    </a:rPr>
                    <a:t>Zdecydowanie nie sprzyjałby 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Text Box 14"/>
                <p:cNvSpPr/>
                <p:nvPr/>
              </p:nvSpPr>
              <p:spPr>
                <a:xfrm>
                  <a:off x="3739320" y="6364080"/>
                  <a:ext cx="2085480" cy="48996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000" spc="-1" strike="noStrike">
                      <a:solidFill>
                        <a:srgbClr val="000000"/>
                      </a:solidFill>
                      <a:latin typeface="Times New Roman"/>
                    </a:rPr>
                    <a:t>Ani sprzyjałby, ani nie sprzyjałby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Text Box 15"/>
                <p:cNvSpPr/>
                <p:nvPr/>
              </p:nvSpPr>
              <p:spPr>
                <a:xfrm>
                  <a:off x="6068160" y="6364080"/>
                  <a:ext cx="1960920" cy="48996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000" spc="-1" strike="noStrike">
                      <a:solidFill>
                        <a:srgbClr val="000000"/>
                      </a:solidFill>
                      <a:latin typeface="Times New Roman"/>
                    </a:rPr>
                    <a:t>Raczej sprzyjałby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000" spc="-1" strike="noStrike">
                      <a:solidFill>
                        <a:srgbClr val="000000"/>
                      </a:solidFill>
                      <a:latin typeface="Times New Roman"/>
                    </a:rPr>
                    <a:t>Zdecydowanie sprzyjałby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" name="Freeform 16"/>
              <p:cNvSpPr/>
              <p:nvPr/>
            </p:nvSpPr>
            <p:spPr>
              <a:xfrm>
                <a:off x="1385280" y="925200"/>
                <a:ext cx="6751440" cy="3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" name="Text Box 17"/>
          <p:cNvSpPr/>
          <p:nvPr/>
        </p:nvSpPr>
        <p:spPr>
          <a:xfrm>
            <a:off x="219240" y="647640"/>
            <a:ext cx="16160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or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–motywa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- przekonanie normatyw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Object 5"/>
          <p:cNvGraphicFramePr/>
          <p:nvPr/>
        </p:nvGraphicFramePr>
        <p:xfrm>
          <a:off x="1343160" y="820800"/>
          <a:ext cx="6705360" cy="51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3160" y="820800"/>
                    <a:ext cx="6705360" cy="51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Object 6"/>
          <p:cNvGraphicFramePr/>
          <p:nvPr/>
        </p:nvGraphicFramePr>
        <p:xfrm>
          <a:off x="209520" y="438120"/>
          <a:ext cx="1486080" cy="559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9520" y="438120"/>
                    <a:ext cx="1486080" cy="559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Text Box 7"/>
          <p:cNvSpPr/>
          <p:nvPr/>
        </p:nvSpPr>
        <p:spPr>
          <a:xfrm>
            <a:off x="1773360" y="5692680"/>
            <a:ext cx="18288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Raczej trud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Zdecydowanie trud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3828960" y="5692680"/>
            <a:ext cx="194472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Ani trudno, ani łatw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6000840" y="5692680"/>
            <a:ext cx="1828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Raczej łatw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Zdecydowanie łatw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1771560" y="6378480"/>
            <a:ext cx="182880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Raczej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możliw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Zdecydowanie możliw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3828960" y="6378480"/>
            <a:ext cx="194472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Ani możliwe, ani niemożliw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6000840" y="6400800"/>
            <a:ext cx="1828800" cy="457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aczej niemożliw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Zdecydowanie niemożliw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0" y="743040"/>
            <a:ext cx="169236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K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strzegana </a:t>
            </a:r>
            <a:r>
              <a:rPr b="1" lang="pl-PL" sz="18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ntrola </a:t>
            </a:r>
            <a:r>
              <a:rPr b="1" lang="pl-PL" sz="18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hawioral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 - ocena własnych możliwoś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p - siła przekonanie, że przeszkoda się pojaw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ątpliwości i niektóre wnios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a władz uczelni jest bardzo istot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tnieje potencjalne zainteresowa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zy naukowcy powinni zajmować się prowadzeniem firm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ydaje się, że tylko nieliczni posiadają takie predyspozyc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że rozwiązaniem byłoby stworzenie grupy menadżerów do wynajęcia (w ramach struktur podległych uczeln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1T11:54:22Z</dcterms:created>
  <dc:creator>OSOBISTY</dc:creator>
  <dc:description/>
  <dc:language>en-US</dc:language>
  <cp:lastModifiedBy>OSOBISTY</cp:lastModifiedBy>
  <dcterms:modified xsi:type="dcterms:W3CDTF">2009-10-22T08:16:03Z</dcterms:modified>
  <cp:revision>5</cp:revision>
  <dc:subject/>
  <dc:title>Przedsiębiorczość akademicka i współpraca z przemysłem</dc:title>
</cp:coreProperties>
</file>